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769-472D-49F4-92A2-26F55115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491-32B1-45C9-B5B6-A2F7D00F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D1A-5790-48AD-A11A-1B677949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564-E910-447C-959A-BE357288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3D64-5BD1-4659-BD98-89929C1D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8726-2346-4F45-9472-E692414A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3728-4E48-4B3D-8663-177A9765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ED78-6B48-4C9F-9FE8-72681F63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4A2E-04EC-484C-A0EF-BE64CB19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8D94-B4C9-470B-98B8-170F4D0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0AD8-F345-49A0-969D-B4F70F43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A1E-0A78-4928-BCB3-2EA84B08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D083-DF3F-47DF-AD73-3C506EEA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2966-62C7-4266-AECF-94237D62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ABAC-115A-480D-88DF-7B1F041A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6444-4D1C-49AE-8D24-87E1F545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5D9B-319D-49E6-A3F8-F52E6BF2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1111-CEF2-4314-99F9-9CC2C391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D01B-4A92-4471-ACA0-9D94E91E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8CE5-6A02-44A4-A622-2B1E90DB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FA07-6072-4FE5-B693-2FAF47E7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10E9-5A26-44AD-BDAF-8735C536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208-F20B-4138-8E67-0FF1C779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2C1F-8ACF-4BA9-8946-37AB0675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A804-1D2B-4520-B4F8-A4F786C2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2E9D1-F9BB-4132-A4E9-B879E854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C474-B7F3-4978-9C6A-0B5BED31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074D-A517-4F71-B704-3FD78A1A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8B93-EEA1-4F7D-9140-DC1C840F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8CD4-FA85-41B7-890D-D2682009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AD37-8F21-434F-835F-FDF02F54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15A5-7A51-4D82-985F-8012F476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59AF-11F2-4479-99BF-677EE990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DD4-FDD0-4930-ADD2-A8919739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763E9-ECE9-4266-8451-678341E9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82E3B-5675-46F2-A837-FFC6137F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9797C-9532-4C7C-968B-CE630A06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29D62-4D9A-4824-B1E5-09667DAF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D311-9FBA-4360-93AC-F49F83E3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7D36F-E577-422F-B3B5-9A74D73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87E73-F461-42C5-A0C5-F908FB98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23D0-22C4-4A73-86C7-8EB8A3CF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D47CB-65E5-425B-BFD8-D9941F7E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58EE6-7967-4BBD-B578-F7006F87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83E-E8AE-4634-8944-284F8726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667A-E996-47E4-9778-CD4BE909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E6E2A-7B1F-4A79-B0E8-ABE3F9D2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31629-0206-438A-9B84-2E754F14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18B50-7CE7-4184-A500-00364880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6F3D7-B01E-470A-B58D-D5A11BF6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70D5D-1294-446D-9AFC-6A4DA433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A33BB-D58B-4F6E-8961-502907A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B6609-D01C-48BB-8971-77162C42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B3DE6-3515-4CC2-A5A9-C1263E5D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81C55-6BEC-4000-B38C-95FF578F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7BA-A440-4EAD-BFC2-54AD11BB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270BA-32B5-4535-A781-59E09ABF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EB632-E146-423D-874F-C2B69555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3D786-2429-4A74-B8EA-F857CC1A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47405-3526-4107-8576-01D0C927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10832-F6AF-4E41-839A-A3B917FC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AAF1A-D73C-48CD-8AB8-C45C0B08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C204E-4136-4009-A3E5-E1C7AE57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32714-2CE4-4313-AD74-112AF30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F1263-F4E9-4D88-B0DA-2BA3ACF7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6B38C-C9CA-4F2A-8F53-26686D0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267-0F26-42BC-9AC2-36245CE2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E6822-0731-485E-863A-763CAD4F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A3090-F7C9-4BC9-A009-06560D67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14632-8A0E-4F8D-B0B6-2E92DFC5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231-997B-492C-A101-DD0D9666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EC8-5186-4A48-BC50-0C77AFFD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1F00-0622-4309-9D59-0C220032BAA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B32E-F5A2-43F8-A513-5CDE6457838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5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3C22-BE2E-4C6D-8FEF-629E4E957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C5FC-21EC-4EC5-A075-AAF9F9E2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5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5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6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2814-3044-41B7-B866-6586799DB6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0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1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5D4F-623D-40EC-88A2-FD2A3A4636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 comid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Mitch Win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 gusta como panqueques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095880" y="2800440"/>
            <a:ext cx="2743200" cy="4057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842160" y="1828800"/>
            <a:ext cx="176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e gusta como Zumo de naranj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coca co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286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7:43:31Z</dcterms:created>
  <dc:creator>wintermit</dc:creator>
  <dc:description/>
  <dc:language>en-US</dc:language>
  <cp:lastModifiedBy>wintermit</cp:lastModifiedBy>
  <dcterms:modified xsi:type="dcterms:W3CDTF">2012-04-04T18:08:43Z</dcterms:modified>
  <cp:revision>4</cp:revision>
  <dc:subject/>
  <dc:title>Slide 1</dc:title>
</cp:coreProperties>
</file>